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918-C50A-485C-8307-B00280C6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9C5-6F38-43C8-ABA5-6D568AB6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8024E-7FA2-4ABD-A3C3-B6AE035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DD5DF-FD36-43AB-A961-21E2BE9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4EB50-2FFF-4BA9-A328-2389E07D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D7BC3-02FD-4BF1-BE2D-1FA347E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E9412-7D22-49DA-86D2-F4267019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4D709-0299-40B2-A6E4-4899FD0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80885-9DB3-4FAC-A1DE-6AF2DE04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EBFC-41EC-406B-A5A6-F707A759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AEB78-6760-46BF-AACC-7D81C227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E771D-7937-4650-8B50-CEB113FF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633-6FFC-4868-B529-9C01723D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B82EC-877B-420A-B6EE-9B5B8BF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29728-B5BC-43C5-98B7-4C6A78C3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2A9E1-3D75-4DE0-85E2-34BAA623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F2601-D22C-40D1-8C2C-101C0F8F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3D64F-8B7A-4E94-9702-F6D7AEBA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8F376-D4FC-4D68-9F02-FC5CC6F9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5D697-8A6F-492A-B505-A91F62F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CBE79-381D-4ABB-93A2-41489F2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E0C21-750E-44CF-9CB1-8ACC70E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84245-AA9D-4AEE-A502-3FC8B3D3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B47-9D25-47D8-9D6B-24283E48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5F377-81B1-40C1-9253-DBE00867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DC3BF-36D6-49DA-9E87-7885999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BBCAE-B550-4533-89BF-9BC30C84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5BA8E-50D9-4F5E-B0AC-1465BF7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18E12-5408-4C2A-929F-62560BC4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E8E92-7575-4605-A00F-E9048B91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EB264-8F00-42CD-9A86-2DC0E2C6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6115-4332-4FD1-8E8D-5776235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5D0AE-780E-4451-A141-4D2EEEE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2494C-E68B-4CBC-8367-7681561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3A8-23A5-46A7-B7D7-919EC36A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9359-3696-4B9A-98C0-074D1D2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55926-2D87-413F-8AD0-6ACC33E5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D05DD-66E5-4A1F-85F1-C8D70A50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196E6-0941-4A70-9520-B3E4BA14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13915-0455-43AF-AB31-5594E7C4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6EA2C-1B52-413C-8C65-3093DCCC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7D1B5-F9EA-4537-8E4B-1124D789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ED2D-9943-47D8-BBBD-DD3591F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8350B-A216-40C5-B1FD-E4E4805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38D4B-4280-40DD-8648-0A97743C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B74-BBC7-448E-99A8-0CDECED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CF3BB-105D-4442-B1AF-545C08F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B1E02-FADC-4245-9457-484E299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1BD0D-123A-47A8-80F8-FB70C6D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70DA0-E5DC-47D4-95B6-4C157047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1E321-F4E2-43F1-A12D-BACDCFFA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4EA49-8D01-4253-9529-AEAD5FB4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FE169-7BC1-4D53-97E2-DD6BF3B9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10819-BB54-4053-AFCE-4DB972A1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93D12-9F4B-4D9E-A640-DBCCBFCC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B601E-DCF5-43C4-9223-0884297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55A-2CD2-47CA-BAEE-91059AE4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22A7B-4F13-4FDD-860E-9948E75F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61DE6-27D9-4B8E-836A-1C755F21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4D33B-E970-414B-AB2F-13A3E64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A0126-71D2-40E9-BDCA-F7D4CDF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E4639-89F1-4E69-A63E-6949D5AE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58FF2-3107-449C-B313-91D2EA10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66912-E658-4945-84EE-E1ED772F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2ECAD-3ABE-4B6D-B909-18E4CA86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01B84-01A0-4725-967D-7967E73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E63E6-9883-4DCC-9753-9765682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1A4D-74A3-405B-8D3F-DB1B6BC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3B668-EB96-438E-B867-21232DD0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6E89C-F18E-4A34-B4FA-C3490957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B9A94-9A71-408F-B1FE-B3D264DD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850E4-182B-4182-B0A4-DFF4A9F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A04CB-6BD8-49F3-8EA2-78FA78F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A0A98-90C9-487E-9857-9843468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201B9-54CB-4292-ADEC-1EB0C95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005D1-FAB0-4A94-B962-1FD8D5E6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47C9F-2B5A-4539-86A2-7AE9B16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111E0-E767-4D25-BD1E-20678DA3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3A70-F01A-4F38-9638-D6C377F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4D7E5-B1EF-475C-BA63-2E34A9E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3E2BA-0C6B-4D66-B2C5-24DD943D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5B70C-25AC-4BB7-9127-1C9D23F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25A1F-9D6E-49A9-81C3-A14F042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B15DB-F90D-42F6-9E49-6295E3F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B6B6A-78D9-4B98-A4D7-EE49E17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02540-31AC-4CF4-9838-E4D207E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73A51-9323-4913-9213-43811BE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39C8D-998B-4253-B373-F5D93EA6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0E4A7-3DBF-43F0-B838-5A3C5FE5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7E08-3210-4830-A81B-A7A8FBEF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ED8A8-0DFD-4D09-B5B5-CD02D587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C97DA2-BFC9-43A6-BE9A-BE81920C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5951B-C5D6-475F-9BF5-877B3D21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8B555-B45B-407A-995D-E51EEF3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039D6-F1EA-482D-A594-5295FD88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BEF63-D2CD-4151-B61D-F85B008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9BD16-E2AC-4F25-ABD9-1D5257B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9AB29-3595-4151-84E9-911E7F3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C4FBE-FA45-4669-A11D-09520BA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4D575-2AE6-4E56-9399-87DD08E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EB9-B1DA-4ED3-9DAC-669606D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077B6-BADC-41E3-AEE9-53C8B16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09924-A0FC-4B26-8F39-A0CCFB7A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B4246-2C25-4323-9270-312DA01C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FDE73-B9E4-485C-BCAE-AF4E798A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1B88C-657B-4045-A1A1-0B61ED9B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58A43-D45E-4A21-9C99-98CCE230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E670C-0126-42AB-A115-FF5FB6B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E13CA-4ADA-414D-A694-9D30D5C4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8E0A1-1BAE-4516-A5F9-B0126973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6A641-AC9A-445B-805D-DB6A5BA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CCD-B07B-41BE-9D86-0D7B1AD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07A1-A642-4781-ABA0-4AE6C2D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ACCCC-7C7D-452B-A6E3-EF63B65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1AD62-8BD5-42BC-BFC5-32E9E4D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265D4-4056-43BA-9BE4-CE0409A5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B38FD-13C2-4E8D-B1C0-D0E3F472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2DC32-3FD4-4670-8668-8F2E4E10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E4C27-D854-4A58-A9B5-41AE3E8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CD7FB-4E0F-41AD-92D2-BC2ABCE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46E4C-9324-45FF-9A4C-BBAD672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F2852-804C-461A-8BDB-5D8AF8BD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40BEB-15CB-4FAA-A4E2-2FB09336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578B-102F-4804-8AC2-1757997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24038-5C96-4698-ACB0-834EDDB0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06104-95B4-4600-8558-8EF12A5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8FD563-0C52-421B-A3A2-6D6CF8E3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C6E0-840E-4696-9109-B9028BB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E516B-A460-469A-AC10-8E350C3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ADBA1C-28E6-43A5-BF7D-380207B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853DC-6964-4041-B825-714C2481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EB2BF-6D67-4447-8891-089605CF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0190C-AB4F-49DF-A885-1959696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03A3A-7746-4352-9FD2-5824A00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0E5A-38C2-4565-B6F1-715A270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CBC66-EDA6-408B-A7ED-07B3DC9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9B82E-267C-4D03-8DE4-B4BCB385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F85A6-5720-4FD9-A6FF-81A311A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E3193-F30C-4956-ABAA-2CDEABE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6F6B2-A0BB-4865-B669-B26ADAD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9BC38-BFA1-4498-BC33-31DA00E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BF1B4-B1BC-41E5-84A7-7188362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BC8E8-1772-4496-B820-9EF66175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0F7F7-02BC-4A9E-B31E-4BFE5A78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3120C-E23C-4804-9CF8-5E215718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7EC6-C6E1-4B24-B738-63288272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06CED-B56C-48B7-AE10-A71A2E8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2FD87-2AEF-4617-9FDA-D5058E4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3044A8-D465-4921-908C-48AE4B64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7193B-BEE7-42A3-8D48-5DB075A1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D7336-6165-4A3A-9F8B-531BF36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8F8E9D-C586-4903-8122-BAE7F43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1F850-880A-454A-8558-31926E16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88120-51E3-4AEE-BB53-29F8FD7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CA2A8-9877-4571-B22E-C5AD80F1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9B39F-E612-4A5D-A6E4-708ABDA5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555-55B9-463D-8C1E-D8E68D6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0456F-05A3-4E57-9BF0-352731FB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E53243-4B94-4428-B750-8032E18E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7B0B0-1A14-4821-AB1E-604F5E0F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0FE91-31AF-4868-A8A5-C1B7365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93C48-0012-4732-84BC-F8B7B79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4CB35-8F6A-42A0-A306-341D71E6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3D6D4-3948-4C27-AEBF-F96897CD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8C1A0-B2E7-4E0C-9CE4-1C18D18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63BA77-C60F-4FF4-9C89-B9C0077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E2F21-3A94-4042-92AC-AD06CBD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D694-2B1A-4D38-8195-6D28636F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12335-C314-49CE-8F63-9D02010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B9263-5249-4B0C-88A0-C6CF25D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E5E8FE-3B45-4C98-A85E-D93DE44C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D6F5E9-963C-4944-950B-2793C04A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21749-DCF5-4763-8C10-441AF459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19E66-2AE1-4CAE-A03E-9985CF3B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E0E66F-6405-445F-A598-9ACC50A2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0F594-27D5-4EB5-9CF9-2EA49B39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659FC-7C30-4C91-9A87-9AFC144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83568-811D-4BE8-8D0B-9BCFCE8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71EE-C0A6-4F7A-B119-907EA46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BEDB4B-6A07-45A3-861F-BC5436F5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AE6163-BE9E-436F-9CED-DC33C35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1752A-9DAE-4CA2-B2A5-91450AB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D563A-A53B-4DB5-8B34-9F02B99A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80501-CA00-4CDB-AB70-6E87CE31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E19475-A4D2-42EB-9FC4-F2F290DD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84F00-FA83-404B-8BA8-1B86B94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511EFC-C0A7-46BB-8224-3825098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4BA873-4272-4B89-AFBB-947F86F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910FF8-0E12-46A3-9691-5BC5A82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2761-51F7-48E3-B353-40135DA0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A72D8-8CB5-44F4-AC76-A337120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FD349-080B-4D98-9AB9-66ECB47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F7C1D-396A-4A74-B2B9-582D849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B36E5-F506-41EE-BF64-A8B9686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47DE54-B739-46A5-AEF1-E5A37C5C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687C16-EA0B-4D65-9515-8673D9F4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6BC29-55E2-4001-BE0D-D98ECFE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A8CEDF-385E-46CE-B706-A681F5A6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FB5BCA-4430-406D-82F4-BAB5D787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9D880E-9F22-4C6D-9DCA-AAE4D793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FA2E-9363-4856-9DEE-68574FE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9C9C5-D3FF-4192-A883-2611E3D2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A820C1-DCA9-43BC-893B-8848A50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1D01BA-6420-49B8-A48A-23606050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ADC1E-1301-4D69-B8BC-19AB7BA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26E0E-F6B4-4E9B-A2DD-94EDB2D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CCA66-E9C6-4AB0-9F33-95A90BC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73F13-FD7E-4064-BDBE-A01847C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240818-4484-4F27-96D7-82CE3098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4B001-F8CD-441D-A9C2-5046FF5A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549F-4E47-4B66-B3E3-28465E46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C49-09B4-4D96-89B6-89A9B1B7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31BA-C473-4AF9-92C2-86E4CCF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BDFF-90F4-4BED-B04C-87BA09A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8BF4-30E0-4EC1-B633-8285B39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96D8-0D68-43D8-B780-6639BBB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D99D-5FAD-47BA-AC83-39AC748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9F2A-F14A-4FF1-AF99-CB48A27E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E8C2-9544-4989-BC27-C749913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6A48-617E-499E-972E-974602C7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EE98-D2EB-4DE5-931C-D5A83DC3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B03C-107D-490C-B54E-ED6E99B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E71-9649-4E6D-8B0C-A30DAABE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9AD3-B5D2-4E71-B39C-77E32DA9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41E6-1BAC-4EBF-BDD1-FA237D7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E73C-22DB-4D13-A14F-4E037A3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CBD5-43A7-4330-A7A1-BF1D711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0798-D311-4DD4-99EC-B8B34631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3B22-DE87-42B0-A504-401DADA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C215-74A4-42A7-95C0-1DCC1F56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00F9-982F-4526-972C-D2BD8022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7852-AFA1-4BD0-A5CC-17F89491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2FD2-8570-4FD4-BABC-92811C9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F87-2886-476F-8FFF-143C3A15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E8FD-AA08-43DD-A2E9-432CB99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AE51-F219-42C8-862F-4BB3E8D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F6C2-DE4F-4031-BDC3-B8DCA4F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E0B6-4EDF-4BB7-9F23-CCA43AC8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878C-976E-41C5-A256-2D9C7DA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184D-80FC-4760-82B1-869311EB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B362-56E6-433B-8BBB-C2CB129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FBBC8-F33C-4EFD-85F2-DAABD75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186AA-1F56-4244-9E33-0D599B1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DCBA-AF53-4BEF-9BC5-19B4000C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EA4-E529-49A4-9CEF-104C970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3250E-0D96-4857-A725-9C26D1DD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6DC8-7A3F-45E6-9E2A-715F706A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9113-E6F3-4DE5-A698-13664CB0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D4DF-C34F-4F6E-98FB-AB0DF9D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07EAB-1D95-46A0-9A63-5178F041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57C2-A852-4B40-A28C-73BFF34C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CC36-FF7A-47A2-80BC-6F5DFB32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EF0A6-627F-4AF1-938D-FA7FF746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DE31-8913-4761-BFF8-92AE1E9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9099-274E-49A8-8AA7-807B1AC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3C0-9B4A-460A-865A-2DE24CB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B67D-E88F-42C3-A1CD-92E73A54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B7C20-A788-416B-BFA1-E33A88F7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9895-1C95-4E1C-A156-E84FE6B1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08E2-0ADD-4CE8-8F9E-6FBEA18E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A657-2A95-45EC-BA5E-FA9A0091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08D60-C139-46A6-9F71-9EC5C4E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1FD3-104A-40B8-A176-F2316EB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D780-AB96-434E-AC7E-39F4654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FBCA-F778-4FAF-8078-471E18C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746C-EAE1-440F-8A4F-560127B2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63E-FC8D-405C-896D-94964EF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66DF-1718-45AE-9CE2-C4993D57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550F-55AD-4B3F-8814-033279A8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A595-0619-4E00-9E7D-9B2912C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C1F9D-7183-431B-913C-AB366E92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7306-1E29-4E96-9380-028271A2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62F91-1D3D-4065-99A5-3C0F542C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5D66B-86FC-4EB1-AF55-B82D8699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95415-6613-4D0D-95C7-74CF4CA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CF28C-4691-4267-8585-7474CEC3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A95F-4C4B-42F4-96EC-6097954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947-E1F2-48A2-BCA6-4D90B23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DC552-F652-4A0D-A286-BA543D3B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D1A16-DB54-4CF8-9BE7-9DDA9D7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A7140-5DED-412B-8341-7F33F3A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2A2F-41F5-414A-951A-1906592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6986-C2E6-416A-B765-D89C1859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28C8-B3F5-4F07-8586-578EECBA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6172-00DE-4D22-AE70-E0F8BDDB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DC0B9-FD55-4618-B347-F640D10B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2BEF4-DF38-43F9-9321-BC70422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DEEED-CCC1-4695-B8F7-867CFD8D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AC1-7402-4B5A-AD0B-4E873DE7E7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46E0-92F6-47BC-A459-87D4328A6F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36F-3AEF-4607-B6A6-E03500691C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551E-C4B5-4DBE-ACA5-01D9E7140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7291-45F1-4C5A-9EC6-E56DED00CC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08DD-8F35-499B-B8AD-C458131269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6D43-B5BC-4F5C-BB2A-E3B20544C2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AA2-B00D-4A8E-860E-DDABF5888C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5B2-9667-45E5-A033-1DEB706D5B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30DA-B42D-4E60-BE2E-E0505A02C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D68D-68B4-4DC8-8C15-400BA62789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制作工作\2014\1\PPT模板\样例\7 初中数学\模板1-1.png"/>
          <p:cNvPicPr/>
          <p:nvPr/>
        </p:nvPicPr>
        <p:blipFill>
          <a:blip r:embed="rId4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171-D3BA-48B1-A63E-239B2A5EA1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EF17-F4CC-45B8-89AA-9983E9D504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D528-E56D-4419-8224-61B9E5B8AC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EE18-6F37-4F92-A2F4-C6E9CF3B51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4AE-176D-4068-9F77-B229205258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C2D-1443-463A-BEAC-32D9B70928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0A0-1F94-4FC2-A2B1-EAFBFDF160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368-C1AB-4E93-9D38-DECFFD5AA5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527-A16E-4D9E-A844-9B07C6D953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C1A0-ABFB-4636-A804-E4F6CB8DD6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EE4C-B4B5-4348-8643-961F65277A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F59D-6F17-47C5-A59F-7099255988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7FE-900E-484F-95C7-5FCBD582DD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标题 1"/>
          <p:cNvSpPr/>
          <p:nvPr/>
        </p:nvSpPr>
        <p:spPr>
          <a:xfrm>
            <a:off x="0" y="917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9.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课题学习　制作立体模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"/>
          <p:cNvSpPr/>
          <p:nvPr/>
        </p:nvSpPr>
        <p:spPr>
          <a:xfrm>
            <a:off x="44280" y="29844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九年级　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" descr="E:\李燃\教师教学用书\人民教育电子音像出版社 社标字.png"/>
          <p:cNvPicPr/>
          <p:nvPr/>
        </p:nvPicPr>
        <p:blipFill>
          <a:blip r:embed="rId2"/>
          <a:stretch/>
        </p:blipFill>
        <p:spPr>
          <a:xfrm>
            <a:off x="6732720" y="6237360"/>
            <a:ext cx="21733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矩形 36"/>
          <p:cNvSpPr/>
          <p:nvPr/>
        </p:nvSpPr>
        <p:spPr>
          <a:xfrm>
            <a:off x="250920" y="328680"/>
            <a:ext cx="482580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创设情境，明确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硬纸板为主要原材料，分别做出下面的两组三视图所表示的立体模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44"/>
          <p:cNvSpPr/>
          <p:nvPr/>
        </p:nvSpPr>
        <p:spPr>
          <a:xfrm>
            <a:off x="1258920" y="5013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45"/>
          <p:cNvSpPr/>
          <p:nvPr/>
        </p:nvSpPr>
        <p:spPr>
          <a:xfrm>
            <a:off x="6012000" y="5013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46" descr="(CAV{2L4]L$D`QK7@(9Y~1X"/>
          <p:cNvPicPr/>
          <p:nvPr/>
        </p:nvPicPr>
        <p:blipFill>
          <a:blip r:embed="rId1"/>
          <a:stretch/>
        </p:blipFill>
        <p:spPr>
          <a:xfrm>
            <a:off x="468360" y="2584440"/>
            <a:ext cx="8182080" cy="178128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矩形 36"/>
          <p:cNvSpPr/>
          <p:nvPr/>
        </p:nvSpPr>
        <p:spPr>
          <a:xfrm>
            <a:off x="250920" y="328680"/>
            <a:ext cx="47527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自主探究，合作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按照下面给出的两组三视图，用马铃薯（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萝卜）做出相应的实物模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8"/>
          <p:cNvSpPr/>
          <p:nvPr/>
        </p:nvSpPr>
        <p:spPr>
          <a:xfrm>
            <a:off x="1835280" y="5734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9"/>
          <p:cNvSpPr/>
          <p:nvPr/>
        </p:nvSpPr>
        <p:spPr>
          <a:xfrm>
            <a:off x="6372360" y="5734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50" descr="[9MF2_H86ZR[S@@Y]JCAR~1"/>
          <p:cNvPicPr/>
          <p:nvPr/>
        </p:nvPicPr>
        <p:blipFill>
          <a:blip r:embed="rId1"/>
          <a:stretch/>
        </p:blipFill>
        <p:spPr>
          <a:xfrm>
            <a:off x="755640" y="2276640"/>
            <a:ext cx="7705800" cy="3209760"/>
          </a:xfrm>
          <a:prstGeom prst="rect">
            <a:avLst/>
          </a:prstGeom>
          <a:ln w="0">
            <a:noFill/>
          </a:ln>
        </p:spPr>
      </p:pic>
      <p:pic>
        <p:nvPicPr>
          <p:cNvPr id="1001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矩形 36"/>
          <p:cNvSpPr/>
          <p:nvPr/>
        </p:nvSpPr>
        <p:spPr>
          <a:xfrm>
            <a:off x="250920" y="333360"/>
            <a:ext cx="475272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交流展示，共同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内容占位符 2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评比优秀作品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矩形 7"/>
          <p:cNvSpPr/>
          <p:nvPr/>
        </p:nvSpPr>
        <p:spPr>
          <a:xfrm>
            <a:off x="250920" y="328680"/>
            <a:ext cx="26654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内容占位符 2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结合具体例子，写一篇短文介绍三视图的应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图片 6" descr="tb.png"/>
          <p:cNvPicPr/>
          <p:nvPr/>
        </p:nvPicPr>
        <p:blipFill>
          <a:blip r:embed="rId1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郑新明</dc:creator>
  <dc:description/>
  <cp:keywords/>
  <dc:language>en-US</dc:language>
  <cp:lastModifiedBy>Administrator</cp:lastModifiedBy>
  <dcterms:modified xsi:type="dcterms:W3CDTF">2014-12-05T07:58:27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